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nyphp.or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apache.or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mysql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php.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6267600"/>
            <a:ext cx="609840" cy="4381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153280" y="64008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/23/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AMP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3352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YPHP Internal Present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ctober 23, 2002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26880"/>
            <a:ext cx="8531280" cy="717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6520" y="533412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 Daniel Kush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6240" y="27432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 and Development with Windows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Zend Stud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190600"/>
            <a:ext cx="23623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wnload .ZIP file from PHP.net or Zend.com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nzip to C:\PH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py file php4ts.dll to c:\winnt\system32\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py file php.ini-recommended to c:\winnt\php.ini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it php.ini by adding the lin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111240" indent="-42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xtension_dir =“c:\php”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51120" indent="-51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dit httpd.conf file by adding the line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111240" indent="-42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LoadModule php4_module c:/php/sapi/php4apache.dll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lvl="1" marL="111240" indent="-42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ddModule mod_php4.c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  <a:p>
            <a:pPr lvl="1" marL="111240" indent="-42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AddType application/x-httpd-php .php</a:t>
            </a:r>
            <a:endParaRPr b="0" lang="en-US" sz="1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PHP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phpinfo();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PHP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hp1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6288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Zend Stud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776680"/>
            <a:ext cx="342900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Zend St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tails and trial available at http://zend.com/store/products/zend-studio.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YPHP.org members get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50%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discount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ent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 and local debugg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rver: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pache, PHP and remote debugging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Zend Stud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erver Op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pach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se existing PHP setu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ction of PHP version from a PHP binar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ow access from other host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able register_globals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o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51814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dStudioServer-2.5.0c-Windows-i386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Zend Stud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phpinfo();</a:t>
            </a:r>
            <a:endParaRPr b="0" lang="en-US" sz="7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Zend Stud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zend1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853400" cy="389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209680" y="4495680"/>
            <a:ext cx="3810240" cy="99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Zend Stud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ient Option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end Studio Server address: localho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5181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endStudio-2_5_0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Zend Stud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Zend Stud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00400"/>
            <a:ext cx="2819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My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un SETUP.EXE 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hoose typical setu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rt &gt; Run &gt; c:\mysql\bin\winmysqladmin.ex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rt &gt; Run &gt; cmd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d c:\mysql\bi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Virtual Ho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rtual Host PHP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pping IP addresses to host na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Zend Studio Project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676520"/>
            <a:ext cx="33530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Virtual 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httpd.conf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ameVirtualHost *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VirtualHost *&gt;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ocumentRoot "c:\sites\nyphp.localhost"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erName nyphp.localhos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/VirtualHost&gt;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Virtual Host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e directory in file system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dit C:\WINNT\system32\drivers\etc\hos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tart Apache and close all browser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ttp://nyphp.localhost/ (oops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pdate DirectoryIndex in httpd.conf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Restart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Virtual Host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&lt;VirtualHost *&gt;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cumentRoot "c:\sites\foo.localhost"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Name foo.localhos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hp_value auto_prepend_file "c:\sites\foo.localhost\prepend.inc"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&lt;/VirtualHost&gt;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&lt;VirtualHost *&gt;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cumentRoot "c:\sites\bar.localhost"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erverName bar.localhost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&lt;/VirtualHost&gt;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Virtual Ho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rtual Host PHP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pping IP addresses to host na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the Zend Studio Project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162160"/>
            <a:ext cx="48006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Virtual Ho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rtual Host PHP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pping IP addresses to host na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the Zend Studio Project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695680"/>
            <a:ext cx="54104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Virtual Ho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rtual Host PHP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pping IP addresses to host na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the Zend Studio Project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200400"/>
            <a:ext cx="640080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reating Virtual Host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rtual Host PHP Configuration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pping IP addresses to host names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sing the Zend Studio Project Management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Apach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PHP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Zend Studi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stalling MySQL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1676520"/>
            <a:ext cx="266724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Apa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.msi File (Windows Installer Package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5" name="apache1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500360" cy="33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Apach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pache2" descr=""/>
          <p:cNvPicPr/>
          <p:nvPr/>
        </p:nvPicPr>
        <p:blipFill>
          <a:blip r:embed="rId1"/>
          <a:stretch/>
        </p:blipFill>
        <p:spPr>
          <a:xfrm>
            <a:off x="2335320" y="1730520"/>
            <a:ext cx="4473360" cy="3396960"/>
          </a:xfrm>
          <a:prstGeom prst="rect">
            <a:avLst/>
          </a:prstGeom>
          <a:ln w="0">
            <a:noFill/>
          </a:ln>
        </p:spPr>
      </p:pic>
      <p:pic>
        <p:nvPicPr>
          <p:cNvPr id="58" name="apache3" descr=""/>
          <p:cNvPicPr/>
          <p:nvPr/>
        </p:nvPicPr>
        <p:blipFill>
          <a:blip r:embed="rId2"/>
          <a:stretch/>
        </p:blipFill>
        <p:spPr>
          <a:xfrm>
            <a:off x="2325600" y="1716120"/>
            <a:ext cx="449100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Apach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pache4" descr=""/>
          <p:cNvPicPr/>
          <p:nvPr/>
        </p:nvPicPr>
        <p:blipFill>
          <a:blip r:embed="rId1"/>
          <a:stretch/>
        </p:blipFill>
        <p:spPr>
          <a:xfrm>
            <a:off x="2320920" y="1716120"/>
            <a:ext cx="45007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Apach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pache5" descr=""/>
          <p:cNvPicPr/>
          <p:nvPr/>
        </p:nvPicPr>
        <p:blipFill>
          <a:blip r:embed="rId1"/>
          <a:stretch/>
        </p:blipFill>
        <p:spPr>
          <a:xfrm>
            <a:off x="2320920" y="1716120"/>
            <a:ext cx="4500720" cy="342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95480" y="2590920"/>
            <a:ext cx="175284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alling Apach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pache6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343560" cy="4589280"/>
          </a:xfrm>
          <a:prstGeom prst="rect">
            <a:avLst/>
          </a:prstGeom>
          <a:ln w="0">
            <a:noFill/>
          </a:ln>
        </p:spPr>
      </p:pic>
      <p:pic>
        <p:nvPicPr>
          <p:cNvPr id="66" name="apache7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24382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1:51:39Z</dcterms:created>
  <dc:creator>Billy</dc:creator>
  <dc:description/>
  <dc:language>en-US</dc:language>
  <cp:lastModifiedBy>Billy</cp:lastModifiedBy>
  <dcterms:modified xsi:type="dcterms:W3CDTF">2002-10-28T00:54:52Z</dcterms:modified>
  <cp:revision>68</cp:revision>
  <dc:subject/>
  <dc:title>ampintro2</dc:title>
</cp:coreProperties>
</file>